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F79-CB10-42DD-800C-02353B19B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5B06-9613-4A87-8C4C-2F37A6CC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B07C-BD7A-47A4-B870-9101A09E5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2836-7292-4AB6-8816-A1D4F2EEB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CBAA0-9E86-4560-8527-2A2E4A446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7046D-BACB-43D7-B665-85679896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F440-2664-4C3E-AA51-9BAFDE66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8EF29-738F-4D5B-B0C9-D5AF4C92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EB1A-4E13-41A5-B019-3A320F62C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D4CD5-94C8-4B19-A7B8-247BC059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8AD3-F929-41C3-AE93-6F932355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8AEA-AF63-4CBD-8795-CB22B507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BDE5-9BE5-434B-B0B8-57005DAF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C8548-1A27-4C7A-9E5C-680B1EA4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7A6F-D473-4711-819F-0B3AD6978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FC7B-47CE-4B10-9BDF-56CD89D09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E647E-8486-4678-A3AA-D13A7BEA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548F-F7BF-4451-95C2-C23CF5F9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9B33-4C51-4B8C-827C-307A829C6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2A3A-54E4-4B61-8A50-06A32103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737A-1EF6-4CB8-8D6F-4021AC20B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214B-F609-4DA1-947A-E4306676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D344-913C-45E7-8CE1-97C4D585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90E-A1E3-4C1E-A69D-0D64ACF1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6658F-401D-4C00-ABC0-B085205531AA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11560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f1b6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3712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1b60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5867280"/>
            <a:ext cx="2286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5866920"/>
            <a:ext cx="434340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8BD-FBBE-4673-8347-9E1C953BD470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8600" y="3808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1b60f"/>
                </a:solidFill>
                <a:latin typeface="Times New Roman"/>
              </a:rPr>
              <a:t>Universidade Federal de Mato Grosso do Su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1b60f"/>
                </a:solidFill>
                <a:latin typeface="Times New Roman"/>
              </a:rPr>
              <a:t>Centro de Ciências Exatas e Tecnolog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1b60f"/>
                </a:solidFill>
                <a:latin typeface="Times New Roman"/>
              </a:rPr>
              <a:t>Departamento de Computação e Estatíst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4114800"/>
            <a:ext cx="86868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presentam...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095880"/>
            <a:ext cx="9144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koreajapan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1089000" cy="1676520"/>
          </a:xfrm>
          <a:prstGeom prst="rect">
            <a:avLst/>
          </a:prstGeom>
          <a:ln w="0">
            <a:noFill/>
          </a:ln>
        </p:spPr>
      </p:pic>
      <p:pic>
        <p:nvPicPr>
          <p:cNvPr id="92" name="dct" descr=""/>
          <p:cNvPicPr/>
          <p:nvPr/>
        </p:nvPicPr>
        <p:blipFill>
          <a:blip r:embed="rId2"/>
          <a:stretch/>
        </p:blipFill>
        <p:spPr>
          <a:xfrm>
            <a:off x="7315200" y="2514600"/>
            <a:ext cx="1657440" cy="129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054880" y="2666880"/>
            <a:ext cx="515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1b60f"/>
                </a:solidFill>
                <a:latin typeface="Times New Roman"/>
              </a:rPr>
              <a:t>Curso de Análise de Sistema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1b60f"/>
                </a:solidFill>
                <a:latin typeface="Times New Roman"/>
              </a:rPr>
              <a:t>Tópicos de Sistemas de Informaçã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7720" y="1219320"/>
            <a:ext cx="7543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5 - Foco em legislação e outros - parte do processo que cuida dos aspectos legais;</a:t>
            </a: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30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763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1.3 ÊNFASES DE INICIATIVAS NACION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803680" y="2403360"/>
            <a:ext cx="6035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38080" y="2708280"/>
            <a:ext cx="7772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2133720"/>
            <a:ext cx="7086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1b60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066680"/>
            <a:ext cx="8686800" cy="44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EUA :</a:t>
            </a:r>
            <a:br>
              <a:rPr sz="3000"/>
            </a:b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* P &amp; D / INDÚSTRIAS </a:t>
            </a: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/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SERVIÇOS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- Na fase de decolagem da NII, direcionou-se para infra-estrutura                                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- UNIÃO EUROPÉIA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* SERVIÇOS / INDÚSTRIAS / P &amp; D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- preocupou-se em aplicaçoes e não em pesquisa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koreajapan" descr=""/>
          <p:cNvPicPr/>
          <p:nvPr/>
        </p:nvPicPr>
        <p:blipFill>
          <a:blip r:embed="rId1"/>
          <a:stretch/>
        </p:blipFill>
        <p:spPr>
          <a:xfrm>
            <a:off x="82296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38" name="dct" descr=""/>
          <p:cNvPicPr/>
          <p:nvPr/>
        </p:nvPicPr>
        <p:blipFill>
          <a:blip r:embed="rId2"/>
          <a:stretch/>
        </p:blipFill>
        <p:spPr>
          <a:xfrm>
            <a:off x="7162920" y="5334120"/>
            <a:ext cx="971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b60f"/>
                </a:solidFill>
                <a:latin typeface="Times New Roman"/>
              </a:rPr>
              <a:t>1.4 ATUAÇÃO GOVERNAMENTAL EM ASPECTOS CRÍTICOS</a:t>
            </a:r>
            <a:endParaRPr b="0" lang="en-US" sz="36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Postura geral dos países mais avançados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- definir o que o governo vai regulamentar e fazer parte que lhe couber com agilidade e concisão;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- promover ativamente a auto-regulamentação sempre que possível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43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14040" y="38088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60f"/>
                </a:solidFill>
                <a:latin typeface="Arial"/>
              </a:rPr>
              <a:t>No caso dos EUA, o esforço foi estruturado na origem como em megaprograma de pesquisa dentro do qual se inseriu um componente de articulação de aplicaçoes e de difusao para o setor privado/ governa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1b60f"/>
                </a:solidFill>
                <a:latin typeface="Arial"/>
              </a:rPr>
              <a:t>No caso da União Européia, a iniciativa foi estruturada na origem como um megaprograma de ações políticas dentro do qual há um componente de P&amp;D de infra-estrutura de rede para educaçao e pesquisa.</a:t>
            </a:r>
            <a:br>
              <a:rPr sz="2800"/>
            </a:br>
            <a:r>
              <a:rPr b="0" lang="en-US" sz="2800" spc="-1" strike="noStrike">
                <a:solidFill>
                  <a:srgbClr val="f1b60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47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0" y="259092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1b60f"/>
                </a:solidFill>
                <a:latin typeface="Times New Roman"/>
              </a:rPr>
              <a:t>Anexo I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50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80880"/>
            <a:ext cx="868680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INDICADORES DE ACOMPANHAMENTO,  O QUE SÃO E PARA QUE SERVE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1b60f"/>
                </a:solidFill>
                <a:latin typeface="Times New Roman"/>
              </a:rPr>
              <a:t>Definiçã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1b60f"/>
                </a:solidFill>
                <a:latin typeface="Times New Roman"/>
              </a:rPr>
              <a:t>Para que servem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1b60f"/>
                </a:solidFill>
                <a:latin typeface="Times New Roman"/>
              </a:rPr>
              <a:t>Exemplo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21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1b60f"/>
                </a:solidFill>
                <a:latin typeface="Times New Roman"/>
              </a:rPr>
              <a:t>INfrastructure, EXperience, Skills, Knowledge (INEXSK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koreajapan" descr=""/>
          <p:cNvPicPr/>
          <p:nvPr/>
        </p:nvPicPr>
        <p:blipFill>
          <a:blip r:embed="rId1"/>
          <a:stretch/>
        </p:blipFill>
        <p:spPr>
          <a:xfrm>
            <a:off x="152280" y="5638680"/>
            <a:ext cx="693720" cy="1067040"/>
          </a:xfrm>
          <a:prstGeom prst="rect">
            <a:avLst/>
          </a:prstGeom>
          <a:ln w="0">
            <a:noFill/>
          </a:ln>
        </p:spPr>
      </p:pic>
      <p:pic>
        <p:nvPicPr>
          <p:cNvPr id="153" name="dct" descr=""/>
          <p:cNvPicPr/>
          <p:nvPr/>
        </p:nvPicPr>
        <p:blipFill>
          <a:blip r:embed="rId2"/>
          <a:stretch/>
        </p:blipFill>
        <p:spPr>
          <a:xfrm>
            <a:off x="7867800" y="5943600"/>
            <a:ext cx="971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380880"/>
            <a:ext cx="86868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ABORDAGEM INEX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Modelo Básic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Efeitos Push e Pul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Capacidade Organizacon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10080" y="725400"/>
            <a:ext cx="3733920" cy="3691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429000" y="1295280"/>
            <a:ext cx="1905120" cy="0"/>
          </a:xfrm>
          <a:prstGeom prst="line">
            <a:avLst/>
          </a:prstGeom>
          <a:ln w="38160">
            <a:solidFill>
              <a:srgbClr val="f1b60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057400" y="3714840"/>
            <a:ext cx="3238560" cy="31431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62520" y="1828800"/>
            <a:ext cx="1218960" cy="0"/>
          </a:xfrm>
          <a:prstGeom prst="line">
            <a:avLst/>
          </a:prstGeom>
          <a:ln w="3816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181480" y="1828800"/>
            <a:ext cx="0" cy="1828800"/>
          </a:xfrm>
          <a:prstGeom prst="line">
            <a:avLst/>
          </a:prstGeom>
          <a:ln w="38160">
            <a:solidFill>
              <a:srgbClr val="f1b60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koreajapan" descr=""/>
          <p:cNvPicPr/>
          <p:nvPr/>
        </p:nvPicPr>
        <p:blipFill>
          <a:blip r:embed="rId3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61" name="dct" descr=""/>
          <p:cNvPicPr/>
          <p:nvPr/>
        </p:nvPicPr>
        <p:blipFill>
          <a:blip r:embed="rId4"/>
          <a:stretch/>
        </p:blipFill>
        <p:spPr>
          <a:xfrm>
            <a:off x="792468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4572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ABORDAGEM INEXSK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O modelo detalh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096240" cy="2982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5943600" y="3809880"/>
            <a:ext cx="3048120" cy="2876760"/>
          </a:xfrm>
          <a:prstGeom prst="rect">
            <a:avLst/>
          </a:prstGeom>
          <a:ln w="0">
            <a:noFill/>
          </a:ln>
        </p:spPr>
      </p:pic>
      <p:pic>
        <p:nvPicPr>
          <p:cNvPr id="165" name="koreajapan" descr=""/>
          <p:cNvPicPr/>
          <p:nvPr/>
        </p:nvPicPr>
        <p:blipFill>
          <a:blip r:embed="rId3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66" name="dct" descr=""/>
          <p:cNvPicPr/>
          <p:nvPr/>
        </p:nvPicPr>
        <p:blipFill>
          <a:blip r:embed="rId4"/>
          <a:stretch/>
        </p:blipFill>
        <p:spPr>
          <a:xfrm>
            <a:off x="1219320" y="5334120"/>
            <a:ext cx="971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572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ABORDAGEM INEXSK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O modelo detalhado... (Quadro A2.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Infra-estrutura: Crescimento dos recursos de telecom</a:t>
            </a:r>
            <a:br>
              <a:rPr sz="2400"/>
            </a:b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       Difusão de computadores pessoa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Experiência: demanda da indústria eletrô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Competência (preparo): Grau de alfabetização</a:t>
            </a:r>
            <a:br>
              <a:rPr sz="2400"/>
            </a:b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        Gadruados em mat., infor., e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Internet e Televiso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 algn="just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819520" y="685800"/>
            <a:ext cx="5127480" cy="5867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57200" y="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ABORDAGEM INEXSK (cont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 pegad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koreajapan" descr=""/>
          <p:cNvPicPr/>
          <p:nvPr/>
        </p:nvPicPr>
        <p:blipFill>
          <a:blip r:embed="rId2"/>
          <a:stretch/>
        </p:blipFill>
        <p:spPr>
          <a:xfrm>
            <a:off x="457200" y="510552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71" name="dct" descr=""/>
          <p:cNvPicPr/>
          <p:nvPr/>
        </p:nvPicPr>
        <p:blipFill>
          <a:blip r:embed="rId3"/>
          <a:stretch/>
        </p:blipFill>
        <p:spPr>
          <a:xfrm>
            <a:off x="8172360" y="5410080"/>
            <a:ext cx="971640" cy="7588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523880" y="1066680"/>
            <a:ext cx="0" cy="685800"/>
          </a:xfrm>
          <a:prstGeom prst="line">
            <a:avLst/>
          </a:prstGeom>
          <a:ln w="38160">
            <a:solidFill>
              <a:srgbClr val="f1b6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23880" y="1752480"/>
            <a:ext cx="1295640" cy="0"/>
          </a:xfrm>
          <a:prstGeom prst="line">
            <a:avLst/>
          </a:prstGeom>
          <a:ln w="38160">
            <a:solidFill>
              <a:srgbClr val="f1b60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79440" y="498600"/>
            <a:ext cx="169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68580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1b6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Roteir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Sociedade da Informação no Brasil : Livro Ver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1b6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nexo I : Evolução da Sociedade da Informação no mun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HPCC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Estruturas das iniciativas nacion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Ênfase de iniciativas nacionai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tuação governamental em aspectos crític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1b6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nexo II : Indicadores de Acompanhament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O que são?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Para que servem?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bordagem INEXSK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Indicadores da Iniciativa do eEurope 2002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6095880"/>
            <a:ext cx="9068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7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98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75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457200" y="1066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24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INDICADORES DA INICIATIVA eEUROPE 200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2438280"/>
            <a:ext cx="8686800" cy="194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1b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1b60f"/>
                </a:solidFill>
                <a:latin typeface="Arial"/>
              </a:rPr>
              <a:t>Internet mais barata, rápida e segura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1b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1b60f"/>
                </a:solidFill>
                <a:latin typeface="Arial"/>
              </a:rPr>
              <a:t>Investindo em habilidades e pessoas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874"/>
              </a:spcBef>
              <a:buClr>
                <a:srgbClr val="f1b60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1b60f"/>
                </a:solidFill>
                <a:latin typeface="Arial"/>
              </a:rPr>
              <a:t> </a:t>
            </a:r>
            <a:r>
              <a:rPr b="0" lang="pt-BR" sz="3000" spc="-1" strike="noStrike">
                <a:solidFill>
                  <a:srgbClr val="f1b60f"/>
                </a:solidFill>
                <a:latin typeface="Arial"/>
              </a:rPr>
              <a:t>Estimulando o uso da internet;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743200" y="25909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1b60f"/>
                </a:solidFill>
                <a:latin typeface="Times New Roman"/>
              </a:rPr>
              <a:t>Artigo 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9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80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0"/>
            <a:ext cx="914400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b60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rtigo I : Profissional do Terceiro Milênio para a 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Introdu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Históric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nos 70: Profissionais supra sum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nos 80: Geren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nos 90: Conhecer a tecnologia e o “negócio”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endências: Assimilar novas funções em curto praz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Formação e Trabalh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Dominio e visão sobre as diversas áreas da empres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Flexibilidade para situações não favorávei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Incorporar atividades gerenc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Humanidade e Acessibil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Respeito aos companheiro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rabalho em equi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rabalhar bem com a integração da empres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cessí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3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84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59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b60f"/>
                </a:solidFill>
                <a:latin typeface="Times New Roman"/>
              </a:rPr>
              <a:t>      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rtigo I : Profissional do Terceiro Milênio para a 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roca de Informações / Flexibil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Disseminar conhecimen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onhecimento comple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nalisar e aceitar idéia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Política de Motiv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Identificar diferença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reinamento e Competitiv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Política de treinament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ompetitividade adequad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Gerente de Informática na empres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tuante em decisõ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Aberto a mudança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Gerenciar pessoas e tarefa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onhecimento Globa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88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0"/>
            <a:ext cx="914400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1b60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1b60f"/>
                </a:solidFill>
                <a:latin typeface="Times New Roman"/>
              </a:rPr>
              <a:t>     </a:t>
            </a: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rtigo I : Profissional do Terceiro Milênio para a 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Informações de Qual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lar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Oportun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Exat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Suficient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onfiável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Dirigidã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Valoros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hefe X Lid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hefe: Posição hierárquic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f1b60f"/>
              </a:buClr>
              <a:buFont typeface="Symbol" charset="2"/>
              <a:buChar char="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Lider: Capacidade de convencimento e união de opiniões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onclus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...Uma revolução tecnológica que esta transformando nossas vidas tão profundamente quanto a revolução industrial no século XIX transformou a vida de nossos antepassados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John Maxwell Hamilt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92" name="dct" descr=""/>
          <p:cNvPicPr/>
          <p:nvPr/>
        </p:nvPicPr>
        <p:blipFill>
          <a:blip r:embed="rId2"/>
          <a:stretch/>
        </p:blipFill>
        <p:spPr>
          <a:xfrm>
            <a:off x="457200" y="39625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koreajapan" descr=""/>
          <p:cNvPicPr/>
          <p:nvPr/>
        </p:nvPicPr>
        <p:blipFill>
          <a:blip r:embed="rId1"/>
          <a:stretch/>
        </p:blipFill>
        <p:spPr>
          <a:xfrm>
            <a:off x="3505320" y="609480"/>
            <a:ext cx="2971800" cy="457200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762120" y="5257800"/>
            <a:ext cx="8229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f1b60f"/>
                </a:solidFill>
                <a:latin typeface="Times New Roman"/>
              </a:rPr>
              <a:t>BRASIL 4 x 0 CHINA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09480" y="1295280"/>
            <a:ext cx="76964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1b60f"/>
                </a:solidFill>
                <a:latin typeface="Times New Roman"/>
              </a:rPr>
              <a:t>Artigo I : Profissional do Terceiro Milênio para a TI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Introdu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Históric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Formação e Trabalh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Humanidade e Acessibil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roca de Informações / Flexibil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Política de Motivação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Treinamento e Competitiv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Gerente de Informática na empresa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Informações de Qualidad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1b60f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1b60f"/>
                </a:solidFill>
                <a:latin typeface="Times New Roman"/>
              </a:rPr>
              <a:t>Chefe X Lider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02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666880" y="2590920"/>
            <a:ext cx="419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600" spc="-1" strike="noStrike">
                <a:solidFill>
                  <a:srgbClr val="f1b60f"/>
                </a:solidFill>
                <a:latin typeface="Times New Roman"/>
              </a:rPr>
              <a:t>Anexo I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05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7631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1b60f"/>
                </a:solidFill>
                <a:latin typeface="Times New Roman"/>
              </a:rPr>
              <a:t>EVOLUÇÃO DA SOCIEDADE DA INFORMAÇÃO NO MUNDO</a:t>
            </a:r>
            <a:endParaRPr b="0" lang="en-US" sz="4800" spc="-1" strike="noStrike">
              <a:solidFill>
                <a:srgbClr val="f1b60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09120" y="3048120"/>
            <a:ext cx="853452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HPCC: High Perfomance Computing and comunications</a:t>
            </a: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- avanço da tecnologia de redes e computação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NII: National Information Infrastructur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7720" y="53316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1b60f"/>
                </a:solidFill>
                <a:latin typeface="Times New Roman"/>
              </a:rPr>
              <a:t>HPCC/ 1994: NOVA ESTRUTURA</a:t>
            </a:r>
            <a:br>
              <a:rPr sz="3200"/>
            </a:br>
            <a:br>
              <a:rPr sz="32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* Sistemas de processamento de alta </a:t>
            </a: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   performance;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* Tecnologia avançada nacional de</a:t>
            </a: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  software;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* Infra- estrutura nacional de 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 </a:t>
            </a: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informações;</a:t>
            </a:r>
            <a:br>
              <a:rPr sz="3000"/>
            </a:b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</a:t>
            </a: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* Pesquisa básica e recursos human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14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60912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1b60f"/>
                </a:solidFill>
                <a:latin typeface="Times New Roman"/>
              </a:rPr>
              <a:t>UNIÃO EUROPÉIA (UE)</a:t>
            </a:r>
            <a:br>
              <a:rPr sz="36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* Informatização inter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1b60f"/>
                </a:solidFill>
                <a:latin typeface="Times New Roman"/>
              </a:rPr>
              <a:t>BLOCO ESCANDINAVO</a:t>
            </a:r>
            <a:br>
              <a:rPr sz="36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* Pouco envolvimento com a GII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18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1b60f"/>
                </a:solidFill>
                <a:latin typeface="Times New Roman"/>
              </a:rPr>
              <a:t>1.2 ESTRUTURAS DAS INICIATIVAS NACIONAIS</a:t>
            </a:r>
            <a:br>
              <a:rPr sz="3600"/>
            </a:br>
            <a:br>
              <a:rPr sz="36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- A sociedade da informação é coordenada dentro do país por um ministério ou algum equivalente</a:t>
            </a: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 à indústria ou comércio.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- Linha de Evolução nas iniciativas:</a:t>
            </a:r>
            <a:br>
              <a:rPr sz="3000"/>
            </a:br>
            <a:br>
              <a:rPr sz="3000"/>
            </a:b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1- proposta -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comissão do governo acionada para tomar iniciativa de coordenação do processo de elaboração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koreajapan" descr=""/>
          <p:cNvPicPr/>
          <p:nvPr/>
        </p:nvPicPr>
        <p:blipFill>
          <a:blip r:embed="rId1"/>
          <a:stretch/>
        </p:blipFill>
        <p:spPr>
          <a:xfrm>
            <a:off x="8305920" y="510552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22" name="dct" descr=""/>
          <p:cNvPicPr/>
          <p:nvPr/>
        </p:nvPicPr>
        <p:blipFill>
          <a:blip r:embed="rId2"/>
          <a:stretch/>
        </p:blipFill>
        <p:spPr>
          <a:xfrm>
            <a:off x="7162920" y="5410080"/>
            <a:ext cx="97128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11560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2 - Gestação - consulta a </a:t>
            </a:r>
            <a:r>
              <a:rPr b="1" lang="pt-BR" sz="3000" spc="-1" strike="noStrike">
                <a:solidFill>
                  <a:srgbClr val="f1b60f"/>
                </a:solidFill>
                <a:latin typeface="Times New Roman"/>
              </a:rPr>
              <a:t>empresários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 e especialista para apresentar a proposta para o primeiro nível Executivo;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3 - Consulta Pública - Divulgação da iniciativa;</a:t>
            </a:r>
            <a:br>
              <a:rPr sz="3000"/>
            </a:b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1b60f"/>
                </a:solidFill>
                <a:latin typeface="Times New Roman"/>
              </a:rPr>
              <a:t>4 - Foco em implantação - Envolve atividades induzidas em infra-estruturas;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6095880"/>
            <a:ext cx="90676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reitos Reservados para: </a:t>
            </a:r>
            <a:r>
              <a:rPr b="1" lang="pt-BR" sz="2000" spc="-1" strike="noStrike">
                <a:solidFill>
                  <a:srgbClr val="ffffff"/>
                </a:solidFill>
                <a:latin typeface="Times New Roman"/>
              </a:rPr>
              <a:t>Ana Bianca Nami Onishi; Fernanda Cossa do Prado; Glauber Mariano Ferreira; Kely Tamaz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koreajapan" descr=""/>
          <p:cNvPicPr/>
          <p:nvPr/>
        </p:nvPicPr>
        <p:blipFill>
          <a:blip r:embed="rId1"/>
          <a:stretch/>
        </p:blipFill>
        <p:spPr>
          <a:xfrm>
            <a:off x="457200" y="5029200"/>
            <a:ext cx="693720" cy="1066680"/>
          </a:xfrm>
          <a:prstGeom prst="rect">
            <a:avLst/>
          </a:prstGeom>
          <a:ln w="0">
            <a:noFill/>
          </a:ln>
        </p:spPr>
      </p:pic>
      <p:pic>
        <p:nvPicPr>
          <p:cNvPr id="126" name="dct" descr=""/>
          <p:cNvPicPr/>
          <p:nvPr/>
        </p:nvPicPr>
        <p:blipFill>
          <a:blip r:embed="rId2"/>
          <a:stretch/>
        </p:blipFill>
        <p:spPr>
          <a:xfrm>
            <a:off x="8172360" y="5334120"/>
            <a:ext cx="97164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2T03:54:36Z</dcterms:created>
  <dc:creator>Tamazato</dc:creator>
  <dc:description/>
  <dc:language>en-US</dc:language>
  <cp:lastModifiedBy>teste</cp:lastModifiedBy>
  <dcterms:modified xsi:type="dcterms:W3CDTF">2002-06-08T17:52:49Z</dcterms:modified>
  <cp:revision>24</cp:revision>
  <dc:subject/>
  <dc:title>Apresentação do PowerPoint</dc:title>
</cp:coreProperties>
</file>